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CB3-C194-4FD5-A3FB-B5627242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89F-2A77-4EF6-B942-211D821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509-D0A4-444E-A211-F2137602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2BB-521D-428B-9510-6F3E4BFD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82C-C1FB-4F0B-9CA8-50D4B220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5E2-0729-4EAB-B308-01576A17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C59-644F-49CB-B2BD-9CB45EA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EE8-4E38-4CFE-931D-980097C2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7CC-61A8-4C93-88CB-AFAFC959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D52-646A-41B9-A069-F4241256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AF6-EAA5-44E9-8DB1-E6981950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620-4913-4DDA-9AD6-339A45F4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3FDF-4C4A-483B-9767-2CEED58743DB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Substituent conținut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143080" y="350028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Manuela</cp:lastModifiedBy>
  <dcterms:modified xsi:type="dcterms:W3CDTF">2012-02-12T20:32:33Z</dcterms:modified>
  <cp:revision>2</cp:revision>
  <dc:subject/>
  <dc:title>CAPITOL 1  </dc:title>
</cp:coreProperties>
</file>